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E88-41E8-4F20-976D-578FA184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2F3-2AB2-4CC9-A89C-27C3A8E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EE8-A3E8-4071-9DC6-07DC6EAA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296-A693-4385-8203-EDD36D74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C1E-BE46-49A3-A659-62A00FBA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E63-5171-4F4A-9063-CAC86458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596-3354-4125-A3C3-BFB52E1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534-8895-408F-93AE-FA400C4B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06F-3163-431F-8E47-1401C662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032-B9A3-461E-9F44-D396349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F2C-8038-4BF7-BD7E-948FDBF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09D-9CCB-40F2-A7BE-5C18D7A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91C-A97D-42B8-931F-2E603A0F6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4f6228"/>
                </a:solidFill>
                <a:latin typeface="Calibri"/>
              </a:rPr>
              <a:t>Copy this down in your workb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are the ideals, customs, institutions, etc., which the members of a group or society find valuable or desir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can be positive, as cleanliness, freedom, or education, or negative, as cruelty, crime, or blasphe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ooltext506120349.png"/>
          <p:cNvPicPr/>
          <p:nvPr/>
        </p:nvPicPr>
        <p:blipFill>
          <a:blip r:embed="rId1"/>
          <a:stretch/>
        </p:blipFill>
        <p:spPr>
          <a:xfrm>
            <a:off x="2843280" y="0"/>
            <a:ext cx="3857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library.thinkquest.org/06aug/00418/map.jpg"/>
          <p:cNvPicPr/>
          <p:nvPr/>
        </p:nvPicPr>
        <p:blipFill>
          <a:blip r:embed="rId1"/>
          <a:stretch/>
        </p:blipFill>
        <p:spPr>
          <a:xfrm>
            <a:off x="1187280" y="874800"/>
            <a:ext cx="7488360" cy="5983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629360" y="189000"/>
            <a:ext cx="5199120" cy="368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lue: an ideal accepted by some individual o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34120" y="1989000"/>
            <a:ext cx="1014480" cy="3682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mb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293360" y="765000"/>
            <a:ext cx="131472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01040" y="1413000"/>
            <a:ext cx="14090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Rectangle 6"/>
          <p:cNvGrpSpPr/>
          <p:nvPr/>
        </p:nvGrpSpPr>
        <p:grpSpPr>
          <a:xfrm>
            <a:off x="7705800" y="1133640"/>
            <a:ext cx="1139760" cy="506160"/>
            <a:chOff x="7705800" y="1133640"/>
            <a:chExt cx="1139760" cy="506160"/>
          </a:xfrm>
        </p:grpSpPr>
        <p:pic>
          <p:nvPicPr>
            <p:cNvPr id="49" name="Rectangle 6" descr=""/>
            <p:cNvPicPr/>
            <p:nvPr/>
          </p:nvPicPr>
          <p:blipFill>
            <a:blip r:embed="rId2"/>
            <a:stretch/>
          </p:blipFill>
          <p:spPr>
            <a:xfrm>
              <a:off x="7705800" y="1133640"/>
              <a:ext cx="113976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14160" y="119700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cou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ectangle 7"/>
          <p:cNvSpPr/>
          <p:nvPr/>
        </p:nvSpPr>
        <p:spPr>
          <a:xfrm>
            <a:off x="1043280" y="2637000"/>
            <a:ext cx="89100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Rectangle 12"/>
          <p:cNvGrpSpPr/>
          <p:nvPr/>
        </p:nvGrpSpPr>
        <p:grpSpPr>
          <a:xfrm>
            <a:off x="6046920" y="1206360"/>
            <a:ext cx="1164960" cy="506520"/>
            <a:chOff x="6046920" y="1206360"/>
            <a:chExt cx="1164960" cy="506520"/>
          </a:xfrm>
        </p:grpSpPr>
        <p:pic>
          <p:nvPicPr>
            <p:cNvPr id="53" name="Rectangle 12" descr=""/>
            <p:cNvPicPr/>
            <p:nvPr/>
          </p:nvPicPr>
          <p:blipFill>
            <a:blip r:embed="rId3"/>
            <a:stretch/>
          </p:blipFill>
          <p:spPr>
            <a:xfrm>
              <a:off x="6046920" y="1206360"/>
              <a:ext cx="1164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63560" y="126828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sacrifi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Rectangle 13"/>
          <p:cNvGrpSpPr/>
          <p:nvPr/>
        </p:nvGrpSpPr>
        <p:grpSpPr>
          <a:xfrm>
            <a:off x="360360" y="3151080"/>
            <a:ext cx="1187280" cy="506520"/>
            <a:chOff x="360360" y="3151080"/>
            <a:chExt cx="1187280" cy="506520"/>
          </a:xfrm>
        </p:grpSpPr>
        <p:pic>
          <p:nvPicPr>
            <p:cNvPr id="56" name="Rectangle 13" descr=""/>
            <p:cNvPicPr/>
            <p:nvPr/>
          </p:nvPicPr>
          <p:blipFill>
            <a:blip r:embed="rId4"/>
            <a:stretch/>
          </p:blipFill>
          <p:spPr>
            <a:xfrm>
              <a:off x="360360" y="3151080"/>
              <a:ext cx="118728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0520" y="32130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diver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Rectangle 14"/>
          <p:cNvGrpSpPr/>
          <p:nvPr/>
        </p:nvGrpSpPr>
        <p:grpSpPr>
          <a:xfrm>
            <a:off x="7272360" y="560520"/>
            <a:ext cx="1390680" cy="500040"/>
            <a:chOff x="7272360" y="560520"/>
            <a:chExt cx="1390680" cy="500040"/>
          </a:xfrm>
        </p:grpSpPr>
        <p:pic>
          <p:nvPicPr>
            <p:cNvPr id="59" name="Rectangle 14" descr=""/>
            <p:cNvPicPr/>
            <p:nvPr/>
          </p:nvPicPr>
          <p:blipFill>
            <a:blip r:embed="rId5"/>
            <a:stretch/>
          </p:blipFill>
          <p:spPr>
            <a:xfrm>
              <a:off x="7272360" y="560520"/>
              <a:ext cx="1390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386480" y="62064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ded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15"/>
          <p:cNvSpPr/>
          <p:nvPr/>
        </p:nvSpPr>
        <p:spPr>
          <a:xfrm>
            <a:off x="547560" y="4221000"/>
            <a:ext cx="169092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njoyment /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837720" y="6093000"/>
            <a:ext cx="175500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scipline /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74120" y="5300640"/>
            <a:ext cx="105696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optim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383600" y="1773360"/>
            <a:ext cx="113004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2919240" y="1052640"/>
            <a:ext cx="104652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mate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7814160" y="5084640"/>
            <a:ext cx="77220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fair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4652280" y="5950080"/>
            <a:ext cx="1713960" cy="3682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ccomplish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770120" y="5373720"/>
            <a:ext cx="8618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on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7314480" y="5732640"/>
            <a:ext cx="8298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2994840" y="6093000"/>
            <a:ext cx="1014480" cy="368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mb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7746840" y="2637000"/>
            <a:ext cx="92916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7960680" y="3429000"/>
            <a:ext cx="87120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7457760" y="4292640"/>
            <a:ext cx="93672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544320" y="4797360"/>
            <a:ext cx="11300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it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2:05:21Z</dcterms:created>
  <dc:creator>vanweringh</dc:creator>
  <dc:description/>
  <dc:language>en-US</dc:language>
  <cp:lastModifiedBy>vanweringh</cp:lastModifiedBy>
  <dcterms:modified xsi:type="dcterms:W3CDTF">2011-02-11T02:06:29Z</dcterms:modified>
  <cp:revision>1</cp:revision>
  <dc:subject/>
  <dc:title>Slide 1</dc:title>
</cp:coreProperties>
</file>